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6C7-F86A-4D49-99DE-DDADC7C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7DD-26CF-48A1-94F9-1A6647B8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4AD-4C56-41B4-A4D8-FB5F8622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624-6D6D-4B88-88E4-A27556CE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0A1-10EB-41C8-8177-3B741A88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A0D-4E9F-4900-963E-3381C909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066-5B47-4FD8-93DC-56D6C41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2A2-378C-48BA-8DBF-ED09FA3C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D32-C86C-46F7-94B0-B71BEE3A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E42-0BAD-42A5-AE39-05E6E3E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138-6D73-4F71-A8C4-27F9C03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951-9663-4143-B27E-919CA8E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347-719F-4BC0-AFFA-DB5244C8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335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533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33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5335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3623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3623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23623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23623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4191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4191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60199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60199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240" y="457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4572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335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860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3623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1911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41911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41911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60199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60199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0574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96252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7150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286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0574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96252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57150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286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96252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150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522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9810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8862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6386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152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19810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388620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56386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286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96252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7150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286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20574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96252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150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2286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96252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7150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1522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9810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8862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56386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152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810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88620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56386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1:41:10Z</dcterms:created>
  <dc:creator>balber</dc:creator>
  <dc:description/>
  <dc:language>en-US</dc:language>
  <cp:lastModifiedBy>balber</cp:lastModifiedBy>
  <dcterms:modified xsi:type="dcterms:W3CDTF">2008-10-15T02:02:33Z</dcterms:modified>
  <cp:revision>5</cp:revision>
  <dc:subject/>
  <dc:title>Slide 1</dc:title>
</cp:coreProperties>
</file>